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79F-FF4B-49BA-ABAC-9DA12883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A7C-EBE8-4AEE-BB76-16FB2811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0A0-6E8B-411D-867D-9B58404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73C-4CB0-45A0-96C6-B931BCBC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0EC-90DF-44A6-BDD0-12777B8A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86B-0990-4DF1-B60B-4C0605AB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6F4-6311-4AFE-A735-ED43F99C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1B8-FE05-4A69-A596-73EA128B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C43-6E86-419F-B859-0D88ECB6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BF1-5419-4E24-AFB8-413534AD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F51-648C-4E63-BC10-0AC5B9E4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89C-5DA5-46BC-A8BF-75D4B9B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0728-6260-4B5F-AA30-B7F2ADC8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ssion for this presentation is currently restricted. This presentation can only be opened by using Microsoft Office 2003 or later. You can request the author of the presentation to send a copy that can be read using the Rights Management Add-on for Interne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4-11-02T00:56:25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